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0EF-9FBC-424C-96A7-D13FA2ED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D66-2B8C-454F-A61A-D281A3B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DCE-6E2B-4C71-BA9E-4DC8501F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3C1-537B-4E18-B8BC-B6A93373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30BB-5249-4769-A93C-F308C73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3ABD9-B615-41E0-AB76-1283751B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4ACBD-32E9-41E3-839F-855FFE90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C831-00A1-424B-AA3E-BD6C8F1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C0779-156C-4B4A-9661-F070908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ACCD3-855B-43C3-A2AD-71D8786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CC33-E347-4101-9AA3-6E45A3C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A04-6FFA-4134-9568-8ADC233F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EF4DA-E035-49A8-855E-5FAF50E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96B93-8383-49B1-BB9E-8DED27A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90F53-380C-4E5F-8CD0-743B290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3F3D-0E44-48E9-9AAF-5121F149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F46B-9933-4DD0-824B-B2B1D3EA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8D8-D7ED-4E75-A370-A4D0F2D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244-AB99-43F6-9666-405E36E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101-965D-4E29-9617-BD1D99FB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1F5-3413-451A-B8B1-03766AB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958-34F9-424F-8DAC-19E7D3C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2F6-E5A6-44A7-9748-5A13916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47C-C0ED-4DE4-AC98-13A54F0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D3A-155D-4748-8C8B-C7DB1AE16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5511-5282-429C-97E4-BF4790327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rugs.com/mtm/epsom-salt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romatherapy Bath Sa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Morgan, MS OTR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ly Landry, OTA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Bath Salts Benefici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psom Sal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f Magnesium and Sulf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irculatory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sh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s Electrol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ability to use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stress by elevating seroto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muscle pain and 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muscles and nerves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l Fac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Sulfates (Epsom Salt) Can be absorbed EXTERNAL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wo 4 lb. cartons of Epsom Salt and empty in b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container of Baking Soda and empty in b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 thoroug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op out 1 cup of salt mixture and pour into your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your favorite aromatherapy 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1 or 2 small drops of favorite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 salt mixture in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tha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label and punch hole in cor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back of label, write a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d label through tie and wrap tie TIGHTLY around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LY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bag of bath salts home and give to a family me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appropriate things to say when giving them the gift? (Expressing thankfulness, love, etc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drugs.com/mtm/epsom-sal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uzzle.com/articles/medical-uses-of-epsom-salt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10:32Z</dcterms:created>
  <dc:creator>User CFCC</dc:creator>
  <dc:description/>
  <dc:language>en-US</dc:language>
  <cp:lastModifiedBy>User CFCC</cp:lastModifiedBy>
  <dcterms:modified xsi:type="dcterms:W3CDTF">2010-02-08T14:34:24Z</dcterms:modified>
  <cp:revision>4</cp:revision>
  <dc:subject/>
  <dc:title>Making Aromatherapy Bath Salts</dc:title>
</cp:coreProperties>
</file>